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FD9-9D8C-414B-B277-16A118A1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9EB-FC19-4163-B36E-6F65C7B6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2A0-8C20-4482-9D3A-C4C30607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290-5393-42BA-B8FB-7D02430A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2E5-7407-4FCB-AD56-0639E25A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39D-8C87-4766-AFF8-121C000C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2FF-C2F4-4E72-8FDE-3B580342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6B8-E2C3-4F2F-8050-1BE33D88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CD6-16C7-445D-A9EC-39556FCE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37F-FE11-422E-B1FF-F4F97372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53B-ACF7-4736-AAEF-2640958F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F37-9A73-471C-982B-4D0BB482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BF6B-3D63-4711-A2F6-37CD1FFAE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0"/>
            <a:ext cx="7467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unstler Script"/>
              </a:rPr>
              <a:t>Paradise Resort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unstler Script"/>
              <a:ea typeface="Kunstler Script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019920"/>
            <a:ext cx="6172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Poster Compressed"/>
              </a:rPr>
              <a:t>Where your dreams become rea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00"/>
                </a:solidFill>
                <a:latin typeface="Brush Script MT"/>
              </a:rPr>
              <a:t>New Cabana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Elephant"/>
              </a:rPr>
              <a:t>Great for parties of any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Elephant"/>
              </a:rPr>
              <a:t>Re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Elephant"/>
              </a:rPr>
              <a:t>Birth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Elephant"/>
              </a:rPr>
              <a:t>Special Occa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00600" y="3200400"/>
            <a:ext cx="4114800" cy="3124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304920"/>
            <a:ext cx="579132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oudy Stout"/>
              </a:rPr>
              <a:t>New Pool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oudy Stout"/>
              <a:ea typeface="Goudy Stou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05320" y="2209680"/>
            <a:ext cx="5638680" cy="4648320"/>
          </a:xfrm>
          <a:prstGeom prst="rect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48" name=""/>
          <p:cNvSpPr/>
          <p:nvPr/>
        </p:nvSpPr>
        <p:spPr>
          <a:xfrm>
            <a:off x="0" y="2895480"/>
            <a:ext cx="35053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wly rebuilt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b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airs and tables available for 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ervations can also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0"/>
            <a:ext cx="5486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Snorkeling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3067200"/>
            <a:ext cx="4876920" cy="37908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257800" y="1143000"/>
            <a:ext cx="388620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ritannic Bold"/>
              </a:rPr>
              <a:t>Snorkeling is included in our all access Touring Pack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ritannic Bold"/>
              </a:rPr>
              <a:t>Swim the waters with over 500 different species and types of fish and aquatic cre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616200"/>
            <a:ext cx="4114800" cy="32418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920" y="1143000"/>
            <a:ext cx="6076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Restraunts and Ba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21084600">
            <a:off x="5562720" y="3580920"/>
            <a:ext cx="3200400" cy="2854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85800" y="380880"/>
            <a:ext cx="461016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Home to some of the b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99400">
            <a:off x="5257800" y="17524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Fun, entertaining night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Family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20494800">
            <a:off x="228600" y="2438280"/>
            <a:ext cx="3276720" cy="26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885000">
            <a:off x="2362320" y="4343400"/>
            <a:ext cx="28191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20958600">
            <a:off x="0" y="3556080"/>
            <a:ext cx="4952880" cy="3301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744600">
            <a:off x="4800240" y="533520"/>
            <a:ext cx="4114800" cy="2773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304920"/>
            <a:ext cx="4038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The most unique and luxurious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Hundreds of styles, looks, shapes and sizes to fit your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3505320"/>
            <a:ext cx="3200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ristina"/>
              </a:rPr>
              <a:t>Voted #1 best hotel by Forbes 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ristina"/>
              </a:rPr>
              <a:t>Voted best service and best rooms by Travel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91120" y="4952880"/>
            <a:ext cx="4952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ritannic Bold"/>
              </a:rPr>
              <a:t>Most of our repeat customers are avid boa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ritannic Bold"/>
              </a:rPr>
              <a:t>They have been boating here for many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ritannic Bold"/>
              </a:rPr>
              <a:t>We have some of the calmes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ritannic Bold"/>
              </a:rPr>
              <a:t>most abundant waters a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21100800">
            <a:off x="380520" y="2286000"/>
            <a:ext cx="3214800" cy="434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619800">
            <a:off x="3619080" y="457200"/>
            <a:ext cx="5524560" cy="270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920" y="304920"/>
            <a:ext cx="517212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erlin Sans FB"/>
              </a:rPr>
              <a:t>Boating and Fishing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2286000"/>
            <a:ext cx="1957320" cy="10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Bright"/>
              </a:rPr>
              <a:t>Sail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Bright"/>
              <a:ea typeface="Lucida Bright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20794800">
            <a:off x="0" y="914040"/>
            <a:ext cx="816768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e see what Paradise Resort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s to offer you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 rot="831600">
            <a:off x="5029200" y="2438280"/>
            <a:ext cx="3828960" cy="382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 rot="20691600">
            <a:off x="456840" y="3505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5:03:38Z</dcterms:created>
  <dc:creator>jmmachen</dc:creator>
  <dc:description/>
  <dc:language>en-US</dc:language>
  <cp:lastModifiedBy>rjohnson</cp:lastModifiedBy>
  <dcterms:modified xsi:type="dcterms:W3CDTF">2009-10-01T15:10:11Z</dcterms:modified>
  <cp:revision>6</cp:revision>
  <dc:subject/>
  <dc:title>Slide 1</dc:title>
</cp:coreProperties>
</file>